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CAF-8FBB-49E8-B886-DE16AD46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6B2-476B-4E14-ADF6-18D87391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5B2-5987-435A-8409-53FC50C2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C45-C838-48B8-BAC6-FD6E6819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503F-2458-400C-A4BB-C0037B93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6F5C-0135-47CF-9FAF-D2DF61B4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F45B-F6D5-4CFB-9C7E-21184277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5F21-8A54-44F0-B883-0035F1D4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F8DF-668F-4BFA-BDAD-DD4B0DE9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6C04-32D9-40A5-B777-F9CE2B4A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6C30-0FB6-4F8A-86C9-D5605CED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80F-98E5-47CE-AC3F-1F49BBD7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6A32-8DCA-4A03-B8CD-0F8C065A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4C28-E969-4D88-9854-1C1486CF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E7A4-7194-4CED-9865-7CE5E469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3EC7-B44C-40D4-B221-B03C3D8C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C7FA-BF95-4A49-B1BA-C93695F0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8CB6-AD94-47CD-9D39-55B84105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9E7-A151-4ADE-9BD6-1289D07E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1A94-C0B2-4A9C-B2E0-3B942483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79A-AE1B-4D97-8C46-E98C8E37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67A-29E5-4A11-A644-17A1F41B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15B-C99B-4D3D-A739-5BD0A2EE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688-A1AD-4682-8542-052B48A6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C7AC-2A76-4F04-85EB-3FD386A3DB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4676-0CC0-4034-AF5D-B7DC05CA19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urs “Cine ştie câştigă!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aiati cu o linie afirmatiile incorecte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Atom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Este componenta a materi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ivizibila/divizibi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in procedee chimice obisn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Se afla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aus/miscare contin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Electrizat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zitiv/negativ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electriz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eutra electr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)Nu participa/partici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fectiv in reactiile chim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urs “Cine ştie câştigă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.Învelişul electronic al atomului este format d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otalitatea protonilor din nucle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otalitatea neutronilor din nucle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otalitatea electronilor care gravitează în jurul nucleulu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urs “Cine ştie câştigă!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.Numărul maxim de electro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ntr-un strat este dat de relaţ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)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b)2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)2n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de n=nr. strat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urs “Cine ştie câştigă!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.Relaţia dintre numărul electroni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şi numărul protonilor dintr-un atom e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)e &lt; 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b)e &gt; 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)e =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urs “Cine ştie câştigă!”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1676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.Precizaţi sarcina electrică a nucleului atomic, numărul de neutroni şi de electroni pentru atomii elementelor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12760" y="3506760"/>
                <a:ext cx="10382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774960" y="3506760"/>
                <a:ext cx="9637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732720" y="3429000"/>
                <a:ext cx="12240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urs “Cine ştie câştigă!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5 atomi de fosfor se noteaza prescurt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5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5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curs “Cine ştie câştigă!” </a:t>
            </a:r>
            <a:br>
              <a:rPr sz="34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lculati Numărul atomic Z si numărul de masă A pentr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03360" y="2209680"/>
            <a:ext cx="61372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827720"/>
            <a:ext cx="70563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.Se dau elementele A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tiind că între  numerele lor atomice exist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relaţii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ZA+ ZB+ ZC=20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ZA- ZB= ZC+2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ZA+ ZB - ZC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ă se identifice cele trei element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urs “Cine ştie câştigă!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urs “Cine ştie câştigă!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Se dau proportiile in care se gasesc izotopii siliciului: 92,2% Si(A=28,Z=14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,65%(A=29), 3,1%(A=30). Masa atomica a Si es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27,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28,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5:35:09Z</dcterms:created>
  <dc:creator>user</dc:creator>
  <dc:description/>
  <dc:language>en-US</dc:language>
  <cp:lastModifiedBy>user</cp:lastModifiedBy>
  <dcterms:modified xsi:type="dcterms:W3CDTF">2007-09-11T16:06:25Z</dcterms:modified>
  <cp:revision>1</cp:revision>
  <dc:subject/>
  <dc:title>Concurs “Cine ştie câştigă!”</dc:title>
</cp:coreProperties>
</file>